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1D7-39FA-457C-9F66-019E037C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DE5-2410-4B09-8252-0CACF355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6BA-9EB7-4681-8431-ECA39026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342-95B8-4F72-86D2-94BE686F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A51-8B61-4CFF-89EA-5EC60549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1B7-3DBB-4C97-A0FB-47FE3A34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1BC-9D6C-42AE-BAAA-CC335A66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DAA-C6B8-402E-B697-030A57F5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F32-BB8B-44A1-9006-AF64F8F5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9D5-7F0C-4C4E-89C4-A697C613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15B-6A01-48A7-9DF7-DECBD83E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6F4-48EE-4992-98F1-7CB3A8A2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6440-E770-48E0-A639-7FC8854AC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4:55:51Z</dcterms:created>
  <dc:creator>Grupo Editorial</dc:creator>
  <dc:description/>
  <dc:language>en-US</dc:language>
  <cp:lastModifiedBy>Grupo Editorial</cp:lastModifiedBy>
  <dcterms:modified xsi:type="dcterms:W3CDTF">2001-09-20T14:57:13Z</dcterms:modified>
  <cp:revision>1</cp:revision>
  <dc:subject/>
  <dc:title>Sin título de diapositiva</dc:title>
</cp:coreProperties>
</file>